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9CC3-231E-4547-BEEA-44D9683E9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0D27-FD6E-4533-83C8-BDF1A569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244-D1D7-4859-99C2-97AFBD9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FF74-0CA9-4DAE-82C6-3DA0CF4A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EF8-D59E-458B-804C-F3E74824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F30-437E-43E3-976F-3B1E62C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036C-5385-4319-BC79-2116723C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18B9-8F0C-4CB5-B89A-9E1D877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FCE-A1F9-4245-8111-50A2265D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642-5DB9-4EFA-9CD1-9243A5BB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ADA4-ACF6-482D-B0E7-DBF0AF5C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519-AE85-462C-A075-32DA22F2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240B-8250-43AD-B238-50E7CA48F5E2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0189-4AB9-4C06-AC41-83AB117A07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Rece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imin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plitude variations derived in response to frequency or phase varia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F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T RF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FET RF amplifi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ing and sensiti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crete Component FM Rece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yout of superheterodyne receiver composed of discrete analog compon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rstanding of how individual subsystem blocks fit together to form complete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receiver designs rely heavily on large-scale integrated circuits and digital signal processing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irect Conversion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Conversion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 frequency-conversion and demodulation functions in one step, rather than tw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er difference-frequency output is intelligence rather than higher-frequency I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s no IF filter; no need for separate demodulator s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mune to image-frequency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 Diode Dete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ce frequencies created by AM receiver detector represent the intelligence; nonlinear de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ult confirmed in time and frequency domai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ode will rectify incoming signal, distorting 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vantages of diode detector is its simplic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ction of Suppressed-Carrier Signa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diode detector cannot be used to demodulate SSB signal because one of frequencies, carrier, is abs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way to form SSB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mixer stage (product detector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chronous det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generates carrier from received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odulation of FM and P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discriminator extracts intelligence modulated onto carrier in form of frequency vari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lope det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ster-Seeley discrimin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io det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drature dete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L FM demodula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emodulation and Detec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A Decod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idiary communication authorization (SC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-multiplexed on FM modulating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eiver Noise, Sensitivity, and Dynamic Range Relationshi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and Receiver Sensi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r the bandwidth, greater noise power and higher noise flo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low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/N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, better receiver sensitivity necessa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AD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nal plu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ise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tor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eiver Noise, Sensitivity, and Dynamic Range Relationship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ynamic Ran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fier or receiver is input power range over which it provides useful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modulation Distortion Tes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 amplifier for its IMD by comparing two test frequencies to level of specific IMD produc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taining the AGC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AGC systems obtain AGC level just following the detec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ling the Gain of a Transis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dc AGC level used to control gain of common-emitter transistor amplifier s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Receiver Characteristics: Sensitivity and Selectivity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nsi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um input signal (voltage) required to produce specified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flo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put noi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e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t to which receiver capable of differentiating between desired signal and other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layed AG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automatic gain control (AGC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nts no reduction in gain for weak signa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xiliary AG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d to cause step reduction in receiver gain at arbitrarily high value of receiv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Sensi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al AGC control; user controls receiver gain (sensitivity) to suit requi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iable Selectiv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bandwidth tuning (VBT): obtain variable selectivit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Limi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lence receiver for duration of noise puls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er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 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vides visual indication of received signal strength; reads dc curr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el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 receivers have squelch circuits to silence audio amplifier stages until carrier detect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audio amplified and passed on to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utomatic Gain Control And Squelc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quel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inuous Tone Coded Squelch System (CTC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s multiple user groups to share common communications channel without having to listen to each other’s transmis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Coded Squelch (DC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re-advanced squelch syste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Tuned Radio-Frequency Receiv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ned Radio Frequency (TRF)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ee stages of RF amplification; each stage preceded by separate variable-tuned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justed by individual variable capaci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able selectivity over its intended tuning r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er (first detector) performs frequency conversion proc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uned-Circuit Adjust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y to superheterodyne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make LO frequency track with circuit or circuits that are tuning incoming radio signal so difference is constant frequency (the IF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age Frequ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desired receiv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of gain in superheterodyne receiver occurs in IF amplifiers at fixed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e con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lve image frequency probl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F amplifier with its own input tuned circuit helps to minimize probl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ouble 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ping down RF signal to a first, high IF frequency and then mixing down again to second, lower, final IF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e frequencies not major problem for low-frequency carr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p-Con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t higher frequency than receiv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ele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ible for image frequency rejection characteristics of receiv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Complete AM Recei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xiliary AGC di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itional gain control for strong signals; enhances range of signals that can be compensated for by receiv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erheterodyne Receiv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SB Receiv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mixer and beat-frequency oscillator (BFO) must replace detection scheme employed by AM receiver designed for reception of full-carrier, double-sideband transmis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James Ramsey</cp:lastModifiedBy>
  <dcterms:modified xsi:type="dcterms:W3CDTF">2013-05-08T15:55:17Z</dcterms:modified>
  <cp:revision>5</cp:revision>
  <dc:subject/>
  <dc:title>Slide 1</dc:title>
</cp:coreProperties>
</file>